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279975" cy="428069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36FD-5D53-417E-9826-756DD536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2725092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4160" y="24744240"/>
            <a:ext cx="2725092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A13-E099-4F04-B2CB-EA510777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77840" y="998820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4160" y="2474424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477840" y="2474424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3B8-1736-4040-A4A5-9A135F11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877464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28000" y="9988200"/>
            <a:ext cx="877464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941840" y="9988200"/>
            <a:ext cx="877464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4160" y="24744240"/>
            <a:ext cx="877464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728000" y="24744240"/>
            <a:ext cx="877464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941840" y="24744240"/>
            <a:ext cx="877464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F12-F0EF-49DE-90B6-19D3DFD8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4160" y="9988200"/>
            <a:ext cx="27250920" cy="28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99"/>
              </a:spcBef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D1B-BC22-490C-9185-16EBC911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27250920" cy="28251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283-4FF1-4FE3-9740-7C21B314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13298400" cy="28251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77840" y="9988200"/>
            <a:ext cx="13298400" cy="28251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284-E1D0-4AFC-98F4-AF13D5D1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C90-AA2B-4AEA-900C-C3B93947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4160" y="1714320"/>
            <a:ext cx="2725092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99"/>
              </a:spcBef>
              <a:tabLst>
                <a:tab algn="l" pos="0"/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6A40-DFC0-4469-9DDC-A55E4F6B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77840" y="9988200"/>
            <a:ext cx="13298400" cy="28251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4160" y="2474424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5F1-FC07-4EB6-BEF1-646B9925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13298400" cy="28251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477840" y="998820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77840" y="2474424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75E-A54A-4E44-BEC5-EDAD035D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477840" y="998820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4160" y="24744240"/>
            <a:ext cx="2725092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99"/>
              </a:spcBef>
              <a:buNone/>
              <a:tabLst>
                <a:tab algn="l" pos="4175280"/>
                <a:tab algn="l" pos="83502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5A4-566C-4333-A513-4162F467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20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4160" y="9988200"/>
            <a:ext cx="27250920" cy="28251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565280" indent="-1565280">
              <a:spcBef>
                <a:spcPts val="3699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  <a:p>
            <a:pPr lvl="1" marL="3390840" indent="-1303200">
              <a:spcBef>
                <a:spcPts val="3699"/>
              </a:spcBef>
              <a:buClr>
                <a:srgbClr val="000000"/>
              </a:buClr>
              <a:buFont typeface="Arial"/>
              <a:buChar char="–"/>
              <a:tabLst>
                <a:tab algn="l" pos="4175280"/>
                <a:tab algn="l" pos="83502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  <a:p>
            <a:pPr lvl="2" marL="5218200" indent="-1042920">
              <a:spcBef>
                <a:spcPts val="3699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  <a:p>
            <a:pPr lvl="3" marL="7305840" indent="-1043280">
              <a:spcBef>
                <a:spcPts val="3699"/>
              </a:spcBef>
              <a:buClr>
                <a:srgbClr val="000000"/>
              </a:buClr>
              <a:buFont typeface="Arial"/>
              <a:buChar char="–"/>
              <a:tabLst>
                <a:tab algn="l" pos="4175280"/>
                <a:tab algn="l" pos="83502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  <a:p>
            <a:pPr lvl="4" marL="9393120" indent="-1042920">
              <a:spcBef>
                <a:spcPts val="3699"/>
              </a:spcBef>
              <a:buClr>
                <a:srgbClr val="000000"/>
              </a:buClr>
              <a:buFont typeface="Arial"/>
              <a:buChar char="»"/>
              <a:tabLst>
                <a:tab algn="l" pos="4175280"/>
                <a:tab algn="l" pos="83502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  <a:p>
            <a:pPr lvl="5" marL="9393120" indent="-1042920">
              <a:spcBef>
                <a:spcPts val="3699"/>
              </a:spcBef>
              <a:buClr>
                <a:srgbClr val="000000"/>
              </a:buClr>
              <a:buFont typeface="Arial"/>
              <a:buChar char="»"/>
              <a:tabLst>
                <a:tab algn="l" pos="4175280"/>
                <a:tab algn="l" pos="83502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  <a:p>
            <a:pPr lvl="6" marL="9393120" indent="-1042920">
              <a:spcBef>
                <a:spcPts val="3699"/>
              </a:spcBef>
              <a:buClr>
                <a:srgbClr val="000000"/>
              </a:buClr>
              <a:buFont typeface="Arial"/>
              <a:buChar char="»"/>
              <a:tabLst>
                <a:tab algn="l" pos="4175280"/>
                <a:tab algn="l" pos="83502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4160" y="39675960"/>
            <a:ext cx="7064280" cy="2279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175280"/>
                <a:tab algn="l" pos="8350200"/>
              </a:tabLst>
              <a:defRPr b="0" lang="en-US" sz="5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5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5320" y="39675960"/>
            <a:ext cx="9588600" cy="2279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700800" y="39675960"/>
            <a:ext cx="7064280" cy="2279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175280"/>
                <a:tab algn="l" pos="8350200"/>
              </a:tabLst>
              <a:defRPr b="0" lang="en-US" sz="5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175280"/>
                <a:tab algn="l" pos="8350200"/>
              </a:tabLst>
            </a:pPr>
            <a:fld id="{BA7C7EB4-DBD5-4C31-B1F6-CC7E8B02F3CC}" type="slidenum">
              <a:rPr b="0" lang="en-US" sz="5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30279960" cy="3544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r" pos="29603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octoral Conference on Computing, Electrical and Industrial Syst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29603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7-29 February, 2012 | Caparica, Lisbon - Portug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8"/>
          <p:cNvSpPr/>
          <p:nvPr/>
        </p:nvSpPr>
        <p:spPr>
          <a:xfrm>
            <a:off x="0" y="41049720"/>
            <a:ext cx="30279960" cy="17143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21"/>
          <p:cNvSpPr/>
          <p:nvPr/>
        </p:nvSpPr>
        <p:spPr>
          <a:xfrm>
            <a:off x="30240" y="41047920"/>
            <a:ext cx="30279960" cy="1800"/>
          </a:xfrm>
          <a:prstGeom prst="line">
            <a:avLst/>
          </a:prstGeom>
          <a:ln w="1015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8" descr="unl2"/>
          <p:cNvPicPr/>
          <p:nvPr/>
        </p:nvPicPr>
        <p:blipFill>
          <a:blip r:embed="rId1"/>
          <a:stretch/>
        </p:blipFill>
        <p:spPr>
          <a:xfrm>
            <a:off x="954000" y="4115268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0" descr="logoFCT"/>
          <p:cNvPicPr/>
          <p:nvPr/>
        </p:nvPicPr>
        <p:blipFill>
          <a:blip r:embed="rId2"/>
          <a:stretch/>
        </p:blipFill>
        <p:spPr>
          <a:xfrm>
            <a:off x="3762360" y="41127480"/>
            <a:ext cx="2521080" cy="1681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2" descr="uninova"/>
          <p:cNvPicPr/>
          <p:nvPr/>
        </p:nvPicPr>
        <p:blipFill>
          <a:blip r:embed="rId3"/>
          <a:stretch/>
        </p:blipFill>
        <p:spPr>
          <a:xfrm>
            <a:off x="7291440" y="41151240"/>
            <a:ext cx="4968720" cy="1657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4" descr="socolnet"/>
          <p:cNvPicPr/>
          <p:nvPr/>
        </p:nvPicPr>
        <p:blipFill>
          <a:blip r:embed="rId4"/>
          <a:stretch/>
        </p:blipFill>
        <p:spPr>
          <a:xfrm>
            <a:off x="12619080" y="41141520"/>
            <a:ext cx="3887640" cy="1667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6" descr="logoifip"/>
          <p:cNvPicPr/>
          <p:nvPr/>
        </p:nvPicPr>
        <p:blipFill>
          <a:blip r:embed="rId5"/>
          <a:stretch/>
        </p:blipFill>
        <p:spPr>
          <a:xfrm>
            <a:off x="17227440" y="41203440"/>
            <a:ext cx="3745080" cy="1605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8" descr="logoies"/>
          <p:cNvPicPr/>
          <p:nvPr/>
        </p:nvPicPr>
        <p:blipFill>
          <a:blip r:embed="rId6"/>
          <a:stretch/>
        </p:blipFill>
        <p:spPr>
          <a:xfrm>
            <a:off x="22124880" y="41159160"/>
            <a:ext cx="2665440" cy="1649520"/>
          </a:xfrm>
          <a:prstGeom prst="rect">
            <a:avLst/>
          </a:prstGeom>
          <a:ln w="0">
            <a:noFill/>
          </a:ln>
        </p:spPr>
      </p:pic>
      <p:sp>
        <p:nvSpPr>
          <p:cNvPr id="50" name="Straight Connector 6"/>
          <p:cNvSpPr/>
          <p:nvPr/>
        </p:nvSpPr>
        <p:spPr>
          <a:xfrm>
            <a:off x="0" y="3546360"/>
            <a:ext cx="30279960" cy="1800"/>
          </a:xfrm>
          <a:prstGeom prst="line">
            <a:avLst/>
          </a:prstGeom>
          <a:ln w="117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1"/>
          <p:cNvSpPr/>
          <p:nvPr/>
        </p:nvSpPr>
        <p:spPr>
          <a:xfrm>
            <a:off x="7939080" y="17640"/>
            <a:ext cx="22340880" cy="34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5" descr="ieee_mb_blue.tif"/>
          <p:cNvPicPr/>
          <p:nvPr/>
        </p:nvPicPr>
        <p:blipFill>
          <a:blip r:embed="rId7"/>
          <a:stretch/>
        </p:blipFill>
        <p:spPr>
          <a:xfrm>
            <a:off x="25941240" y="41567040"/>
            <a:ext cx="3051360" cy="889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"/>
          <p:cNvPicPr/>
          <p:nvPr/>
        </p:nvPicPr>
        <p:blipFill>
          <a:blip r:embed="rId8"/>
          <a:stretch/>
        </p:blipFill>
        <p:spPr>
          <a:xfrm>
            <a:off x="-4680" y="-209520"/>
            <a:ext cx="815976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03:52:19Z</dcterms:created>
  <dc:creator>Filipa Ferrada</dc:creator>
  <dc:description/>
  <dc:language>en-US</dc:language>
  <cp:lastModifiedBy>GoncaloCastro</cp:lastModifiedBy>
  <dcterms:modified xsi:type="dcterms:W3CDTF">2011-06-25T14:51:57Z</dcterms:modified>
  <cp:revision>97</cp:revision>
  <dc:subject/>
  <dc:title>Slide 1</dc:title>
</cp:coreProperties>
</file>